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232CAA-9274-49A3-B4FE-4F96DED021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BA2074-1F2C-4A2E-AB64-E1CAA71610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324E04-1D7E-46F3-AA55-5A4B601365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AA7E2F-5E08-451B-91BD-B2B0A2AF97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EF77FD90-8A1F-40F1-9D82-B9E3D50298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CE77CA9-EEB2-4830-B26A-E6A4A846FA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FBE5F35-A02E-417E-9330-D92E45FB11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31ABF99-8D05-4A7A-A400-104D0ADB41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D931A38-2439-4AA3-8468-C3B17CA5F3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116F22C-AFE5-42B7-8BDA-8575471808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F081000-1A9C-46B4-ACB0-9AF4AF1F64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049E7B-B423-44C6-BB33-FA83409595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45203C4-08D3-4278-874A-3E23C03CD5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C1C3C97-4E76-423A-A8AB-C17C7DD159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FCC1B53-DB46-4D5C-A782-EF30B08AEA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B85309C5-A6EF-4951-A662-2197D3DC78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E8AE53AD-648B-43E6-B282-4AFD82E046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4FD1A7-F263-4534-9596-A82F683618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78DDDC-3E09-4EA8-BD8B-4B7C3B54DD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707737-D7C8-445B-88BB-06F3A7D017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330D09-39A6-4FBF-8AEC-27F6D781B8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729DB6-E744-41E9-BCD5-24335C23A5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8B194C-D491-4D48-A2EA-24D9D52512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A9735F-EE25-4DB5-9A8D-CBA4EFBB8D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67C90-7D4C-4B01-B264-A25B8673DB77}"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8C712-B30E-432C-8488-A956F415F7E2}"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3e3ff"/>
                </a:solidFill>
                <a:latin typeface="Arial"/>
              </a:rPr>
              <a:t>ПСИХОЛОГО-ПЕДАГОГИЧЕСКАЯ ХАРАКТЕРИСТИКА ДЕТЕЙ</a:t>
            </a:r>
            <a:br>
              <a:rPr sz="4800"/>
            </a:br>
            <a:r>
              <a:rPr b="0" lang="en-US" sz="4800" spc="-1" strike="noStrike">
                <a:solidFill>
                  <a:srgbClr val="e3e3ff"/>
                </a:solidFill>
                <a:latin typeface="Arial"/>
              </a:rPr>
              <a:t>СНАРУШЕНИЕМ ЗРЕНИЯ</a:t>
            </a:r>
            <a:br>
              <a:rPr sz="4800"/>
            </a:br>
            <a:endParaRPr b="0" lang="en-US" sz="4800" spc="-1" strike="noStrike">
              <a:solidFill>
                <a:srgbClr val="e3e3ff"/>
              </a:solidFill>
              <a:latin typeface="Arial"/>
            </a:endParaRPr>
          </a:p>
        </p:txBody>
      </p:sp>
      <p:sp>
        <p:nvSpPr>
          <p:cNvPr id="123"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
          <p:cNvSpPr/>
          <p:nvPr/>
        </p:nvSpPr>
        <p:spPr>
          <a:xfrm>
            <a:off x="324000" y="361800"/>
            <a:ext cx="8064360" cy="558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луховые ощущения слепых</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Исследования (Гризбах, Купц, Л.Р. Рубина, М.И. Земцовой и др.) показали необоснованность утверждений об «изощренности» слуха слепых.</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Некоторые изменения слуховой чувствительности при глубоких нарушениях зрения появляются не как результат потери зрения, а как следствие более активного участия слухового анализатора в деятельности при изменившихся условиях жизни.</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Слуховая чувствительность при слепоте изменяется, как и в норме, в результате выработки новых условноефлекторных связей. Ощущения громкости, высоты и тембра звука у слепых не имеют никаких принципиальных отличий от нормы. Слуховая чувствительность слепых может дости-</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гать, как и у зрячих, очень высокого уровня развития.</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
          <p:cNvSpPr/>
          <p:nvPr/>
        </p:nvSpPr>
        <p:spPr>
          <a:xfrm>
            <a:off x="395280" y="333360"/>
            <a:ext cx="8424720" cy="521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Кожные ощущения слепых</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оскольку осязание имеет существенное значение для деятельности слепых, необходимо помнить, что пороги кожной чувствительности подвержены серьезным колебаниям под влиянием окружающих условий. Одним из факторов, наиболее сильно действующих на остроту осязания, является утомление.</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нижается острота осязания также под воздействием сильных темпе-</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ратурных и механических раздражителей, вызывающих болевые ощуще-</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ния. Кроме того, у слепых наблюдается повышенная способность диффе-</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ренцировать термальные и болевые раздражители.</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Температурная чувствительность довольно широко используется слепы-</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ми при ориентации в окружающем пространстве, в быту, реже в познавательной деятельности. Благодаря температурной чувствительности кожных покровов лица и рук слепые по теплоотдаче предмета могут судить о его местоположении, по теплопроводности – различать материалы, локализуя источник тепла – определять уровень жидкости в сосуде, положение солнца и т.п.</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
          <p:cNvSpPr/>
          <p:nvPr/>
        </p:nvSpPr>
        <p:spPr>
          <a:xfrm>
            <a:off x="179280" y="333360"/>
            <a:ext cx="8640720" cy="640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Особенности развития восприятия и его механизмы</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при нарушениях функций зрения</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Нарушения функций зрения приводят к </a:t>
            </a:r>
            <a:r>
              <a:rPr b="0" i="1" lang="ru-RU" sz="2400" spc="-1" strike="noStrike">
                <a:solidFill>
                  <a:srgbClr val="ffffff"/>
                </a:solidFill>
                <a:latin typeface="Times New Roman"/>
              </a:rPr>
              <a:t>сокращению и редуцированию (ослаблению) зрительных ощущений </a:t>
            </a:r>
            <a:r>
              <a:rPr b="0" lang="ru-RU" sz="2400" spc="-1" strike="noStrike">
                <a:solidFill>
                  <a:srgbClr val="ffffff"/>
                </a:solidFill>
                <a:latin typeface="Times New Roman"/>
              </a:rPr>
              <a:t>у частичнозрячих и слабовидящих или полному их выпадению у тотально слепых.</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При слепоте и слабовидении наблюдается </a:t>
            </a:r>
            <a:r>
              <a:rPr b="0" i="1" lang="ru-RU" sz="2400" spc="-1" strike="noStrike">
                <a:solidFill>
                  <a:srgbClr val="ffffff"/>
                </a:solidFill>
                <a:latin typeface="Times New Roman"/>
              </a:rPr>
              <a:t>редуцирование </a:t>
            </a:r>
            <a:r>
              <a:rPr b="0" lang="ru-RU" sz="2400" spc="-1" strike="noStrike">
                <a:solidFill>
                  <a:srgbClr val="ffffff"/>
                </a:solidFill>
                <a:latin typeface="Times New Roman"/>
              </a:rPr>
              <a:t>проявления некоторых </a:t>
            </a:r>
            <a:r>
              <a:rPr b="0" i="1" lang="ru-RU" sz="2400" spc="-1" strike="noStrike">
                <a:solidFill>
                  <a:srgbClr val="ffffff"/>
                </a:solidFill>
                <a:latin typeface="Times New Roman"/>
              </a:rPr>
              <a:t>свойств восприятия</a:t>
            </a:r>
            <a:r>
              <a:rPr b="0" lang="ru-RU"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избирательность восприятия ограничивается узким кругом интересов, снижением активности отражательной деятельности, меньшим, по сравнению с нормой, эмоциональным воздействием внешнего мира;</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апперцепция проявляется слабее, чем в норме, в связи с недостаточным чувственным опытом;</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осмысленность и обобщенность затрудняются как недостаточным чувственным опытом, так и снижением полноты и точности отображаемого</a:t>
            </a:r>
            <a:r>
              <a:rPr b="0" lang="ru-RU"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
          <p:cNvSpPr/>
          <p:nvPr/>
        </p:nvSpPr>
        <p:spPr>
          <a:xfrm>
            <a:off x="179280" y="333360"/>
            <a:ext cx="8713800" cy="558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Особенности зрительного восприятия лиц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с нарушениями зрения</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У детей с нарушениями зрения формируются обедненные, часто деформированные и неустойчивые зрительные образы. Нарушение зрения накладывает отпечаток на протекание всего процесса формирования образов.</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Для зрительного восприятия, как и для восприятия любой модальности, свойственна избирательность, т.е. выделение тех объектов, которые находятся в сфере интересов, деятельности и внимания ребенка. При остаточном зрении и слабовидении, когда зрительные стимулы неточно отражаются нарушенной зрительной системой, ослабляется интерес к окружающему, снижается общая активность и, как результат, избирательность восприятия.</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
          <p:cNvSpPr/>
          <p:nvPr/>
        </p:nvSpPr>
        <p:spPr>
          <a:xfrm>
            <a:off x="324000" y="500040"/>
            <a:ext cx="842472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2. Предметность – основной результат процесса восприятия, ее уровень определяет, насколько целостно и осмысленно воспринят объект, отражена ли в восприятии его структура. Ограниченность информации, получаемой частично видящими и слабовидящими, обусловливает появление такой особенности их восприятия, как схематизм зрительного образа, его обедненность.</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3. Нарушается целостность восприятия объекта, в образе объекта часто отсутствуют не только второстепенные, но и определяющие детали, что ведет к фрагментарности и неточности отражения окружающего. Нарушение целостности определяет трудности формирования структуры образа,</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иерархии признаков объекта.</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
          <p:cNvSpPr/>
          <p:nvPr/>
        </p:nvSpPr>
        <p:spPr>
          <a:xfrm>
            <a:off x="755640" y="476280"/>
            <a:ext cx="741672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4. Для нормального функционирования зрительного восприятия характерна константность, т.е. способность узнавать объект вне зависимости от его положения, расстояния от глаз, освещенности, т.е. от условий восприятия. Для слабовидящих и частично видящих зона константного восприятия сужается в зависимости от степени поражения зрения.</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5. Важным свойством восприятия является способность абстрагироваться от случайных, несущественных признаков объекта, выделять его существенные качества. Это свойство обобщения выступает в единстве с мыслительными операциями анализа, синтеза, сравнения. Трудности выделе-</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ния существенных качеств, отсутствие целостности образа, его фрагментарность и неполнота определяют низкий уровень обобщенности образов при глубоких нарушениях зрения.</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
          <p:cNvSpPr/>
          <p:nvPr/>
        </p:nvSpPr>
        <p:spPr>
          <a:xfrm>
            <a:off x="468360" y="260280"/>
            <a:ext cx="777564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6. При слабовидении и слепоте с остаточным зрением страдает также скорость и правильность зрительного восприятия, что непосредственно связано со снижением остроты зрения.</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7. Нарушения бинокулярного зрения приводят к пространственной слепоте, нарушению восприятия перспективы и глубины пространства, при этом образы восприятия искажаются и неадекватны действительности.</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8. При слабовидении изменяется процесс образования образа, нарушается симультанность опознания признаков формы, размера и цвета. Эти особенности более выражены при органических нарушениях зрительного анализатора.</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
          <p:cNvSpPr/>
          <p:nvPr/>
        </p:nvSpPr>
        <p:spPr>
          <a:xfrm>
            <a:off x="395280" y="333360"/>
            <a:ext cx="799308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9. В условиях зрительной депривации наблюдаются также большая сте-</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ень несформированности антиципации, низкий уровень выделения при</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знаков объектов и их интеграции.</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0. Изменяется характер восприятия и качественная же характеристика</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роцесса опознания, а именно нарушение симультанности отражения, переход на сукцессивный способ восприятия.</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Результаты исследования образов восприятия и различения таких качеств объектов, как цвет, форма, размер, показали зависимость их адекватного восприятия от условий восприятия и качеств самих объектов. Одним из основных условий выступает необходимость активизации познавательных процессов, участвующих в акте сенсорного отражения, на чем и строится теория компенсации. Формирование образа требует специально организованной деятельности, включающей развитие процессов анализа, иден-</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тификации, синтеза, процессов интеграционной деятельности с использованием речи, т.е. механизмов компенсации, свойственных слепоте.</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
          <p:cNvSpPr/>
          <p:nvPr/>
        </p:nvSpPr>
        <p:spPr>
          <a:xfrm>
            <a:off x="684360" y="333360"/>
            <a:ext cx="7559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Основные особенности образов памяти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слепых и слабовидящих</a:t>
            </a:r>
            <a:endParaRPr b="0" lang="en-US" sz="2400" spc="-1" strike="noStrike">
              <a:solidFill>
                <a:srgbClr val="ffffff"/>
              </a:solidFill>
              <a:latin typeface="Arial"/>
            </a:endParaRPr>
          </a:p>
        </p:txBody>
      </p:sp>
      <p:sp>
        <p:nvSpPr>
          <p:cNvPr id="142" name=""/>
          <p:cNvSpPr/>
          <p:nvPr/>
        </p:nvSpPr>
        <p:spPr>
          <a:xfrm>
            <a:off x="395280" y="1268280"/>
            <a:ext cx="835344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Times New Roman"/>
              </a:rPr>
              <a:t>Неадекватность образов </a:t>
            </a:r>
            <a:r>
              <a:rPr b="0" lang="ru-RU" sz="2400" spc="-1" strike="noStrike">
                <a:solidFill>
                  <a:srgbClr val="ffffff"/>
                </a:solidFill>
                <a:latin typeface="Times New Roman"/>
              </a:rPr>
              <a:t>отчетливо проявляется при повторном восприятии объектов в процессе узнавания. В основе фрагментарности образов слепых и слабовидящих лежит сукцессивность, последовательность</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осязательного или дефектного зрительного восприятия.</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Сукцессивность и фрагментарность восприятия в значительной мере преодолеваются благодаря работе мышления, а также развитию навыков осязательного и зрительного обследования объектов. Возможна также фрагментарность представлений и при симультанном зрительном восприятии как следствие тяжелых поражений зрительного анализатора.</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
          <p:cNvSpPr/>
          <p:nvPr/>
        </p:nvSpPr>
        <p:spPr>
          <a:xfrm>
            <a:off x="468360" y="193680"/>
            <a:ext cx="792144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Times New Roman"/>
              </a:rPr>
              <a:t>Схематизм</a:t>
            </a:r>
            <a:r>
              <a:rPr b="0" lang="ru-RU" sz="2400" spc="-1" strike="noStrike">
                <a:solidFill>
                  <a:srgbClr val="ffffff"/>
                </a:solidFill>
                <a:latin typeface="Times New Roman"/>
              </a:rPr>
              <a:t>, как и фрагментарность, возникает в результате недостаточно полного осязательного или зрительного отражения. Схематизм особенно отчетливо проявляется при репродуцировании образов, бедных деталями и поэтому слабо дифференцированных. Наиболее же характерные признаки: форма, величина и др.– остаются в тени, в результате чего образ памяти формируется как голая схема того или иного объекта. Однако, направляя и организовывая процесс восприятия у детей с дефектами зрения, развивая наблюдательность, формируя навыки обследования, можно преодолеть схематизм их представлений и тем самым способствовать более полному и точному отражению объективной действительности.</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С перечисленными особенностями представлений при сужении сферы чувственного познания тесно связана и </a:t>
            </a:r>
            <a:r>
              <a:rPr b="0" i="1" lang="ru-RU" sz="2400" spc="-1" strike="noStrike">
                <a:solidFill>
                  <a:srgbClr val="ffffff"/>
                </a:solidFill>
                <a:latin typeface="Times New Roman"/>
              </a:rPr>
              <a:t>недостаточная бобщенность образов памяти </a:t>
            </a:r>
            <a:r>
              <a:rPr b="0" lang="ru-RU" sz="2400" spc="-1" strike="noStrike">
                <a:solidFill>
                  <a:srgbClr val="ffffff"/>
                </a:solidFill>
                <a:latin typeface="Times New Roman"/>
              </a:rPr>
              <a:t>слепых и слабовидящих.</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1116000" y="193680"/>
            <a:ext cx="7488360" cy="740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Linotype"/>
              </a:rPr>
              <a:t>К лицам с нарушениями зрения относятся:</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Linotype"/>
              </a:rPr>
              <a:t>Слепые с полным отсутствием зрения и дети с остаточным зрением, при котором его острота равна 0,04 и ниже на лучше видящем глазу с применением очков.</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Palatino Linotype"/>
              </a:rPr>
              <a:t>Слепота</a:t>
            </a:r>
            <a:r>
              <a:rPr b="0" i="1" lang="en-US" sz="2400" spc="-1" strike="noStrike">
                <a:solidFill>
                  <a:srgbClr val="ffffff"/>
                </a:solidFill>
                <a:latin typeface="Palatino Linotype"/>
              </a:rPr>
              <a:t> </a:t>
            </a:r>
            <a:r>
              <a:rPr b="0" lang="en-US" sz="2400" spc="-1" strike="noStrike">
                <a:solidFill>
                  <a:srgbClr val="ffffff"/>
                </a:solidFill>
                <a:latin typeface="Palatino Linotype"/>
              </a:rPr>
              <a:t>– снижение зрения, при котором невозможно или очень ограничено зрительное восприятие окружающего мира из-за глубокого нарушения остроты центрального зрения или сужения поля зрения при боль-</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Linotype"/>
              </a:rPr>
              <a:t>шей остроте зрения.</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Linotype"/>
              </a:rPr>
              <a:t>Слабовидящие со снижением зрения от 0,05 до 0,2 на лучше видящем глазу с очковой коррекцией.</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Palatino Linotype"/>
              </a:rPr>
              <a:t>Слабовидение </a:t>
            </a:r>
            <a:r>
              <a:rPr b="0" lang="en-US" sz="2400" spc="-1" strike="noStrike">
                <a:solidFill>
                  <a:srgbClr val="ffffff"/>
                </a:solidFill>
                <a:latin typeface="Palatino Linotype"/>
              </a:rPr>
              <a:t>– это значительное снижение остроты зрения, при котором центральное зрение на лучше видящем глазу находится в пределах 0,05–0,2 при использовании оптической коррекции</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
          <p:cNvSpPr/>
          <p:nvPr/>
        </p:nvSpPr>
        <p:spPr>
          <a:xfrm>
            <a:off x="395280" y="476280"/>
            <a:ext cx="835344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 невозможностью осязательно или зрительно воспринимать те или</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иные объекты в целом или их отдельные свойства связана и такая харак-</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терная особенность представлений слепых и слабовидящих, как </a:t>
            </a:r>
            <a:r>
              <a:rPr b="0" i="1" lang="ru-RU" sz="1800" spc="-1" strike="noStrike">
                <a:solidFill>
                  <a:srgbClr val="ffffff"/>
                </a:solidFill>
                <a:latin typeface="Arial"/>
              </a:rPr>
              <a:t>вербализм</a:t>
            </a:r>
            <a:r>
              <a:rPr b="0" lang="ru-RU" sz="1800" spc="-1" strike="noStrike">
                <a:solidFill>
                  <a:srgbClr val="ffffff"/>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Arial"/>
              </a:rPr>
              <a:t>Вербализм </a:t>
            </a:r>
            <a:r>
              <a:rPr b="0" lang="ru-RU" sz="1800" spc="-1" strike="noStrike">
                <a:solidFill>
                  <a:srgbClr val="ffffff"/>
                </a:solidFill>
                <a:latin typeface="Arial"/>
              </a:rPr>
              <a:t>– нарушение соотношений чувственного и понятийного в об-</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разе в сторону преобладания последнего или полное отсутствие чувственных элементов в словесном описании объекта. Вербализм представлений хорошо иллюстрируется широким использованием незрячими описаний объектов, в которых фигурируют недоступные для осязательного восприятия признаки.</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утем для преодоления вербализма представлений слепых и слабови-</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дящих является широкое использование наглядных пособий, приспособленных для осязательного и дефектного зрительного восприятия, воспитание культуры осязания, включение в познавательную деятельность всех сохранных анализаторов, воспитание  наблюдательности.</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
          <p:cNvSpPr/>
          <p:nvPr/>
        </p:nvSpPr>
        <p:spPr>
          <a:xfrm>
            <a:off x="971640" y="476280"/>
            <a:ext cx="7038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Специфические особенности развития памяти лиц с нарушениями зрения</a:t>
            </a:r>
            <a:endParaRPr b="0" lang="en-US" sz="2400" spc="-1" strike="noStrike">
              <a:solidFill>
                <a:srgbClr val="ffffff"/>
              </a:solidFill>
              <a:latin typeface="Arial"/>
            </a:endParaRPr>
          </a:p>
        </p:txBody>
      </p:sp>
      <p:sp>
        <p:nvSpPr>
          <p:cNvPr id="146" name=""/>
          <p:cNvSpPr/>
          <p:nvPr/>
        </p:nvSpPr>
        <p:spPr>
          <a:xfrm>
            <a:off x="395280" y="1628640"/>
            <a:ext cx="835344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реди особенностей процесса запоминания слепых и слабовидящих школьников, кроме </a:t>
            </a:r>
            <a:r>
              <a:rPr b="0" i="1" lang="ru-RU" sz="1800" spc="-1" strike="noStrike">
                <a:solidFill>
                  <a:srgbClr val="ffffff"/>
                </a:solidFill>
                <a:latin typeface="Arial"/>
              </a:rPr>
              <a:t>уменьшения объема и скорости</a:t>
            </a:r>
            <a:r>
              <a:rPr b="0" lang="ru-RU" sz="1800" spc="-1" strike="noStrike">
                <a:solidFill>
                  <a:srgbClr val="ffffff"/>
                </a:solidFill>
                <a:latin typeface="Arial"/>
              </a:rPr>
              <a:t>, можно отметить </a:t>
            </a:r>
            <a:r>
              <a:rPr b="0" i="1" lang="ru-RU" sz="1800" spc="-1" strike="noStrike">
                <a:solidFill>
                  <a:srgbClr val="ffffff"/>
                </a:solidFill>
                <a:latin typeface="Arial"/>
              </a:rPr>
              <a:t>недостаточную осмысленность запоминаемого материала</a:t>
            </a:r>
            <a:r>
              <a:rPr b="0" lang="ru-RU" sz="1800" spc="-1" strike="noStrike">
                <a:solidFill>
                  <a:srgbClr val="ffffff"/>
                </a:solidFill>
                <a:latin typeface="Arial"/>
              </a:rPr>
              <a:t>. Недостатки</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логической памяти связаны с дефектами восприятия и обусловленными</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оследними некоторыми недостатками мышления (разрыв между поняти-</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ем и его конкретным содержанием, трудности, испытываемые слепыми и</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лабовидящими в мыслительных операциях анализа и синтеза, сравнения,</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лассификации и т.д.). Однако несмотря на недостаточный уровень разви-</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тия логической памяти запоминание материала, имеющего смысловые свя-</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зи, протекает у детей с нарушенными зрительными функциями успешней,</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нежели материала, не связанного смысловыми отношениями (А.И. Зотов).</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У слепых и слабовидящих школьников наиболее продуктивно происхо-</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дит </a:t>
            </a:r>
            <a:r>
              <a:rPr b="0" i="1" lang="ru-RU" sz="1800" spc="-1" strike="noStrike">
                <a:solidFill>
                  <a:srgbClr val="ffffff"/>
                </a:solidFill>
                <a:latin typeface="Arial"/>
              </a:rPr>
              <a:t>запоминание начала материала</a:t>
            </a:r>
            <a:r>
              <a:rPr b="0" lang="ru-RU" sz="1800" spc="-1" strike="noStrike">
                <a:solidFill>
                  <a:srgbClr val="ffffff"/>
                </a:solidFill>
                <a:latin typeface="Arial"/>
              </a:rPr>
              <a:t>, что объясняется повышенной утомля</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емостью детей с дефектами зрения.</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
          <p:cNvSpPr/>
          <p:nvPr/>
        </p:nvSpPr>
        <p:spPr>
          <a:xfrm>
            <a:off x="395280" y="260280"/>
            <a:ext cx="828036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Образы памяти слепых и слабовидящих при отсутствии подкреплений обнаруживают тенденцию к распаду. Даже небольшие промежутки времени отрицательно сказываются на их представлениях, что проявляется в резком снижении уровня дифференцированности, адекватности образов</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эталонам (объектам восприятия).</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Быстрое забывание усвоенного материала объясняется не только недостаточным количеством или отсутствием повторений, но и недостаточной значимостью объектов и обозначающих их понятий, о которых слепые могут получить только вербальное знание. Большое количество объектов и понятий, полных значимости и поэтому легко запоминающихся и длительно сохраняющихся в памяти у зрячих, для лиц с дефектами зрения теряют свое значение, что не способствует как запоминанию, так и длительному сохранению.</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3ff"/>
                </a:solidFill>
                <a:latin typeface="Times New Roman"/>
              </a:rPr>
              <a:t>Особенности развития мышления у лиц с</a:t>
            </a:r>
            <a:br>
              <a:rPr sz="3200"/>
            </a:br>
            <a:r>
              <a:rPr b="1" lang="en-US" sz="3200" spc="-1" strike="noStrike">
                <a:solidFill>
                  <a:srgbClr val="e3e3ff"/>
                </a:solidFill>
                <a:latin typeface="Times New Roman"/>
              </a:rPr>
              <a:t>нарушениями зрения</a:t>
            </a:r>
            <a:endParaRPr b="0" lang="en-US" sz="3200" spc="-1" strike="noStrike">
              <a:solidFill>
                <a:srgbClr val="e3e3ff"/>
              </a:solidFill>
              <a:latin typeface="Arial"/>
            </a:endParaRPr>
          </a:p>
        </p:txBody>
      </p:sp>
      <p:sp>
        <p:nvSpPr>
          <p:cNvPr id="149" name="PlaceHolder 2"/>
          <p:cNvSpPr>
            <a:spLocks noGrp="1"/>
          </p:cNvSpPr>
          <p:nvPr>
            <p:ph/>
          </p:nvPr>
        </p:nvSpPr>
        <p:spPr>
          <a:xfrm>
            <a:off x="468360" y="1484280"/>
            <a:ext cx="8229600" cy="4495680"/>
          </a:xfrm>
          <a:prstGeom prst="rect">
            <a:avLst/>
          </a:prstGeom>
          <a:noFill/>
          <a:ln w="0">
            <a:noFill/>
          </a:ln>
        </p:spPr>
        <p:txBody>
          <a:bodyPr lIns="90000" rIns="90000" tIns="46800" bIns="46800" anchor="t">
            <a:normAutofit fontScale="90000"/>
          </a:bodyPr>
          <a:p>
            <a:pPr marL="30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А.Г. Литвак и А.Ф. Самойлов отмечают три концепции развития мышления лиц с дефектами зрения:</a:t>
            </a:r>
            <a:endParaRPr b="0" lang="en-US" sz="2400" spc="-1" strike="noStrike">
              <a:solidFill>
                <a:srgbClr val="ffffff"/>
              </a:solidFill>
              <a:latin typeface="Arial"/>
            </a:endParaRPr>
          </a:p>
          <a:p>
            <a:pPr marL="308520" indent="-308520">
              <a:lnSpc>
                <a:spcPct val="8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теория ускоренного развития мышления слепых и слабовидящих (С.Ф. Струве, А.М. Щербина, А.Р. Крогиус, К. Бюрклен, Б.И. Коваленко): потеря зрения способствует более раннему, быстрому, преимущественному развитию логического мышления у слепых по сравнению с нормально видящими;</a:t>
            </a:r>
            <a:endParaRPr b="0" lang="en-US" sz="2400" spc="-1" strike="noStrike">
              <a:solidFill>
                <a:srgbClr val="ffffff"/>
              </a:solidFill>
              <a:latin typeface="Arial"/>
            </a:endParaRPr>
          </a:p>
          <a:p>
            <a:pPr marL="308520" indent="-308520">
              <a:lnSpc>
                <a:spcPct val="8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теория отрицательного влияния нарушения зрения (М.И. Земцова, Ф.Н. Шемякин): недостатки чувственного познания сказываются на мышлении и на образовании неточных обобщений и их формальных понятий,</a:t>
            </a:r>
            <a:endParaRPr b="0" lang="en-US" sz="2400" spc="-1" strike="noStrike">
              <a:solidFill>
                <a:srgbClr val="ffffff"/>
              </a:solidFill>
              <a:latin typeface="Arial"/>
            </a:endParaRPr>
          </a:p>
          <a:p>
            <a:pPr marL="308520" indent="-308520">
              <a:lnSpc>
                <a:spcPct val="8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концепция независимости развития мышления от дефектов зрения (А.И. Зотов и его школа): связывает уровень развития мыслительной деятельности слепых и слабовидящих с качеством программирования и управления процессом его формирования.</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24000" y="115920"/>
            <a:ext cx="8229600" cy="63374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Анализ и синтез</a:t>
            </a:r>
            <a:r>
              <a:rPr b="0" lang="ru-RU" sz="2800" spc="-1" strike="noStrike">
                <a:solidFill>
                  <a:srgbClr val="ffffff"/>
                </a:solidFill>
                <a:latin typeface="Arial"/>
              </a:rPr>
              <a:t>. Глубокие нарушения функций зрения, влекущие за собой затруднения в сфере восприятия, затрудняют операции анализа и синтеза отражаемых и являющихся объектом познания различных сторон действительности. Это объясняется, с одной стороны, недостаточно полным отражением свойств и признаков объектов, а с другой – относительной сукцессивностью осязательного и нарушенного зрительного восприятий, препятствующих формированию целостного образа, в результате чего страдают различение и дифференцировка. Эти же причины лежат в основе трудностей, испытываемых слепыми при вычленении наиболее существенных, характерных свойств и связей объектов познания</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324000" y="188640"/>
            <a:ext cx="8640720" cy="65530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Сравнение</a:t>
            </a:r>
            <a:r>
              <a:rPr b="0" lang="en-US" sz="2800" spc="-1" strike="noStrike">
                <a:solidFill>
                  <a:srgbClr val="ffffff"/>
                </a:solidFill>
                <a:latin typeface="Arial"/>
              </a:rPr>
              <a:t>. В операции сравнения при наличии серьезных дефектов зрения также наблюдаются определенные затруднения, особенно на уровне чувственного познания. Невозможность или сложность получения ряда чувственных данных при полной или частичной утрате зрения препятствует тонкому различению и дифференцировке объектов, а следовательно, и их сравнению. Недостаточная глубина сравнения на чувственном уровне не может не отразиться на научно-теоретическом мышлении, так как при сравнении понятий необходима опора на их конкретное содержание, причем, чем сложнее мыслительная задача, тем более часто приходится опираться на конкретные, чувственные данные</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468360" y="259920"/>
            <a:ext cx="8229600" cy="57610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Классификация.</a:t>
            </a:r>
            <a:r>
              <a:rPr b="0" lang="en-US" sz="2800" spc="-1" strike="noStrike">
                <a:solidFill>
                  <a:srgbClr val="ffffff"/>
                </a:solidFill>
                <a:latin typeface="Times New Roman"/>
              </a:rPr>
              <a:t> Часто наблюдающееся у слепых выделение несущественных или чрезмерно общих признаков препятствует правильной классификации и систематизации. Классифицируя понятия, дети с нарушениями зрения часто не могут выделить родовые признаки и дают неверные ответы. В овладении операциями классификации слабовидящих детей начальных классов отмечается больше затруднений; для них характерны трудности в образовании групп предметов, потеря единого основания при организации групп, переход к объединению по функциональному или внешнему признаку.</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e3e3ff"/>
                </a:solidFill>
                <a:latin typeface="Times New Roman"/>
              </a:rPr>
              <a:t>Развитие речи и неязыковых средств общения лиц с</a:t>
            </a:r>
            <a:br>
              <a:rPr sz="3600"/>
            </a:br>
            <a:r>
              <a:rPr b="1" i="1" lang="en-US" sz="3600" spc="-1" strike="noStrike">
                <a:solidFill>
                  <a:srgbClr val="e3e3ff"/>
                </a:solidFill>
                <a:latin typeface="Times New Roman"/>
              </a:rPr>
              <a:t>нарушениями зрения</a:t>
            </a:r>
            <a:endParaRPr b="0" lang="en-US" sz="3600" spc="-1" strike="noStrike">
              <a:solidFill>
                <a:srgbClr val="e3e3ff"/>
              </a:solidFill>
              <a:latin typeface="Arial"/>
            </a:endParaRPr>
          </a:p>
        </p:txBody>
      </p:sp>
      <p:sp>
        <p:nvSpPr>
          <p:cNvPr id="1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Развитие фонематического слуха и формирование речеслуховых представлений, основанные на слуховом восприятии, протекают у слепых и зрячих идентично, а формирование речедвигательных образов (артикуляция звуков речи), основанное в значительной мере на зрительном восприятии, существенно страдает, так как слепота полностью или частично нарушает</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непосредственное подражание.</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
          <p:cNvSpPr/>
          <p:nvPr/>
        </p:nvSpPr>
        <p:spPr>
          <a:xfrm>
            <a:off x="468360" y="620640"/>
            <a:ext cx="806436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В результате в содержании придуманных детьми рассказов мало своих собственных сюжетов. В основном в них представлены картины и отрывки из известных сказок и рассказов. Но и они характеризуются следующими особенностями:</a:t>
            </a:r>
            <a:endParaRPr b="0" lang="en-US" sz="24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стереотипностью;</a:t>
            </a:r>
            <a:endParaRPr b="0" lang="en-US" sz="24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малой вариативностью;</a:t>
            </a:r>
            <a:endParaRPr b="0" lang="en-US" sz="24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отсутствием целостности;</a:t>
            </a:r>
            <a:endParaRPr b="0" lang="en-US" sz="24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слабым проявлением эмоциональности, оригинальности и законченности повествований;</a:t>
            </a:r>
            <a:endParaRPr b="0" lang="en-US" sz="24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трудностями подбора обобщающих слов к предложенным рядам объектов;</a:t>
            </a:r>
            <a:endParaRPr b="0" lang="en-US" sz="24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снижением уровня выделения общих признаков предъявляемых групп и предметов</a:t>
            </a:r>
            <a:r>
              <a:rPr b="0" lang="en-US" sz="2400" spc="-1" strike="noStrike">
                <a:solidFill>
                  <a:srgbClr val="ffffff"/>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50560" y="228240"/>
            <a:ext cx="84358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3e3ff"/>
                </a:solidFill>
                <a:latin typeface="Times New Roman"/>
              </a:rPr>
              <a:t>Проблемы социализации и интеграции лиц с</a:t>
            </a:r>
            <a:br>
              <a:rPr sz="3200"/>
            </a:br>
            <a:r>
              <a:rPr b="1" i="1" lang="en-US" sz="3200" spc="-1" strike="noStrike">
                <a:solidFill>
                  <a:srgbClr val="e3e3ff"/>
                </a:solidFill>
                <a:latin typeface="Times New Roman"/>
              </a:rPr>
              <a:t>нарушениями зрения</a:t>
            </a:r>
            <a:endParaRPr b="0" lang="en-US" sz="3200" spc="-1" strike="noStrike">
              <a:solidFill>
                <a:srgbClr val="e3e3ff"/>
              </a:solidFill>
              <a:latin typeface="Arial"/>
            </a:endParaRPr>
          </a:p>
        </p:txBody>
      </p:sp>
      <p:sp>
        <p:nvSpPr>
          <p:cNvPr id="157" name="PlaceHolder 2"/>
          <p:cNvSpPr>
            <a:spLocks noGrp="1"/>
          </p:cNvSpPr>
          <p:nvPr>
            <p:ph/>
          </p:nvPr>
        </p:nvSpPr>
        <p:spPr>
          <a:xfrm>
            <a:off x="457200" y="1483920"/>
            <a:ext cx="8229600" cy="47530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Среди причин, по которым слепые и слабовидящие дети хотели бы учиться в общеобразовательной школе, выделяют:</a:t>
            </a:r>
            <a:endParaRPr b="0" lang="en-US" sz="3200" spc="-1" strike="noStrike">
              <a:solidFill>
                <a:srgbClr val="ffffff"/>
              </a:solidFill>
              <a:latin typeface="Arial"/>
            </a:endParaRPr>
          </a:p>
          <a:p>
            <a:pPr marL="343080" indent="-343080">
              <a:lnSpc>
                <a:spcPct val="90000"/>
              </a:lnSpc>
              <a:spcBef>
                <a:spcPts val="799"/>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желание быть с родителями и друзьями;</a:t>
            </a:r>
            <a:endParaRPr b="0" lang="en-US" sz="3200" spc="-1" strike="noStrike">
              <a:solidFill>
                <a:srgbClr val="ffffff"/>
              </a:solidFill>
              <a:latin typeface="Arial"/>
            </a:endParaRPr>
          </a:p>
          <a:p>
            <a:pPr marL="343080" indent="-343080">
              <a:lnSpc>
                <a:spcPct val="90000"/>
              </a:lnSpc>
              <a:spcBef>
                <a:spcPts val="799"/>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психологический комфорт;</a:t>
            </a:r>
            <a:endParaRPr b="0" lang="en-US" sz="3200" spc="-1" strike="noStrike">
              <a:solidFill>
                <a:srgbClr val="ffffff"/>
              </a:solidFill>
              <a:latin typeface="Arial"/>
            </a:endParaRPr>
          </a:p>
          <a:p>
            <a:pPr marL="343080" indent="-343080">
              <a:lnSpc>
                <a:spcPct val="90000"/>
              </a:lnSpc>
              <a:spcBef>
                <a:spcPts val="799"/>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если бы хорошо видеть;</a:t>
            </a:r>
            <a:endParaRPr b="0" lang="en-US" sz="3200" spc="-1" strike="noStrike">
              <a:solidFill>
                <a:srgbClr val="ffffff"/>
              </a:solidFill>
              <a:latin typeface="Arial"/>
            </a:endParaRPr>
          </a:p>
          <a:p>
            <a:pPr marL="343080" indent="-343080">
              <a:lnSpc>
                <a:spcPct val="90000"/>
              </a:lnSpc>
              <a:spcBef>
                <a:spcPts val="799"/>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если бы была меньше нагрузка;</a:t>
            </a:r>
            <a:endParaRPr b="0" lang="en-US" sz="3200" spc="-1" strike="noStrike">
              <a:solidFill>
                <a:srgbClr val="ffffff"/>
              </a:solidFill>
              <a:latin typeface="Arial"/>
            </a:endParaRPr>
          </a:p>
          <a:p>
            <a:pPr marL="343080" indent="-343080">
              <a:lnSpc>
                <a:spcPct val="90000"/>
              </a:lnSpc>
              <a:spcBef>
                <a:spcPts val="799"/>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там лучше учителя;</a:t>
            </a:r>
            <a:endParaRPr b="0" lang="en-US" sz="3200" spc="-1" strike="noStrike">
              <a:solidFill>
                <a:srgbClr val="ffffff"/>
              </a:solidFill>
              <a:latin typeface="Arial"/>
            </a:endParaRPr>
          </a:p>
          <a:p>
            <a:pPr marL="343080" indent="-343080">
              <a:lnSpc>
                <a:spcPct val="90000"/>
              </a:lnSpc>
              <a:spcBef>
                <a:spcPts val="799"/>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там больше порядка.</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
          <p:cNvSpPr/>
          <p:nvPr/>
        </p:nvSpPr>
        <p:spPr>
          <a:xfrm>
            <a:off x="900000" y="0"/>
            <a:ext cx="7488360" cy="7409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ahoma"/>
              </a:rPr>
              <a:t>Классификация лиц с нарушениями зрения в зависимости от способов восприятия и степени сохранности остаточного зрения:</a:t>
            </a:r>
            <a:endParaRPr b="0" lang="en-US" sz="24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абсолютно (тотально) слепые, пользующиеся тактильно-слуховым способом восприятия (к ним также относятся лица, имеющие светоощущение).</a:t>
            </a:r>
            <a:endParaRPr b="0" lang="en-US" sz="24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частично (парциально) видящие, имеющие в разной степени форменное зрение, но в связи с его неполноценностью пользующиеся зрительно-тактильно-слуховым способом восприятия. К ним относятся лица с остаточным зрением до 0,05 с коррекцией очками на лучше видящем глазу.</a:t>
            </a:r>
            <a:endParaRPr b="0" lang="en-US" sz="24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слабовидящие, пользующиеся преимущественно зрительным способом восприятия действительности, с остротой центрального зрения от 0,2 и выше при глубоких изменениях других зрительных функций.</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
          <p:cNvSpPr/>
          <p:nvPr/>
        </p:nvSpPr>
        <p:spPr>
          <a:xfrm>
            <a:off x="611280" y="404640"/>
            <a:ext cx="8064360" cy="545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Причины, по которым учащиеся специальных школ не хотели бы учиться</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в общеобразовательной школе:</a:t>
            </a:r>
            <a:endParaRPr b="0" lang="en-US" sz="32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насмешки детей;</a:t>
            </a:r>
            <a:endParaRPr b="0" lang="en-US" sz="32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мне лучше в специальной школе;</a:t>
            </a:r>
            <a:endParaRPr b="0" lang="en-US" sz="32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учусь последний год;</a:t>
            </a:r>
            <a:endParaRPr b="0" lang="en-US" sz="32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в специальной школе меньше классы;</a:t>
            </a:r>
            <a:endParaRPr b="0" lang="en-US" sz="32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в прежней школе изменился состав коллектива;</a:t>
            </a:r>
            <a:endParaRPr b="0" lang="en-US" sz="32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привык к специальной школе;</a:t>
            </a:r>
            <a:endParaRPr b="0" lang="en-US" sz="32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другие личные причины.</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
          <p:cNvSpPr/>
          <p:nvPr/>
        </p:nvSpPr>
        <p:spPr>
          <a:xfrm>
            <a:off x="324000" y="189000"/>
            <a:ext cx="8424720" cy="67492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ff"/>
                </a:solidFill>
                <a:latin typeface="Times New Roman"/>
              </a:rPr>
              <a:t>Обучение детей с нарушением зрения в общеобразовательных учреждениях требует решения ряда проблем объективного и субъективного характера</a:t>
            </a:r>
            <a:r>
              <a:rPr b="0" lang="ru-RU" sz="2300" spc="-1" strike="noStrike">
                <a:solidFill>
                  <a:srgbClr val="ffffff"/>
                </a:solidFill>
                <a:latin typeface="Times New Roman"/>
              </a:rPr>
              <a:t>:</a:t>
            </a:r>
            <a:endParaRPr b="0" lang="en-US" sz="2300" spc="-1" strike="noStrike">
              <a:solidFill>
                <a:srgbClr val="ffffff"/>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Times New Roman"/>
              </a:rPr>
              <a:t>Педагоги массовых учреждений должны получить минимум медицинских, психологических, методических знаний, а также сведений о специальной педагогике.</a:t>
            </a:r>
            <a:endParaRPr b="0" lang="en-US" sz="2300" spc="-1" strike="noStrike">
              <a:solidFill>
                <a:srgbClr val="ffffff"/>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Times New Roman"/>
              </a:rPr>
              <a:t>Для организации интегрированного обучения необходима помощь тифлопедагога-консультанта.</a:t>
            </a:r>
            <a:endParaRPr b="0" lang="en-US" sz="2300" spc="-1" strike="noStrike">
              <a:solidFill>
                <a:srgbClr val="ffffff"/>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Times New Roman"/>
              </a:rPr>
              <a:t>Необходимо целенаправленно формировать адекватное отношение к незрячим детям как со стороны педагогов, родителей, так и со стороны общественности.</a:t>
            </a:r>
            <a:endParaRPr b="0" lang="en-US" sz="2300" spc="-1" strike="noStrike">
              <a:solidFill>
                <a:srgbClr val="ffffff"/>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Times New Roman"/>
              </a:rPr>
              <a:t>Дети с нарушением зрения, обучающиеся в общеобразовательных школах, должны быть обеспечены специальными учебниками и тифлопособиями.</a:t>
            </a:r>
            <a:endParaRPr b="0" lang="en-US" sz="2300" spc="-1" strike="noStrike">
              <a:solidFill>
                <a:srgbClr val="ffffff"/>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Times New Roman"/>
              </a:rPr>
              <a:t>Педагогу по физической культуре необходимо знать допустимые нагрузки и противопоказания детей.</a:t>
            </a:r>
            <a:endParaRPr b="0" lang="en-US" sz="2300" spc="-1" strike="noStrike">
              <a:solidFill>
                <a:srgbClr val="ffffff"/>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Times New Roman"/>
              </a:rPr>
              <a:t>Педагог должен уметь правильно интерпретировать заболевания ребенка, поощрять его доброжелательностью, милосердием т.д.</a:t>
            </a: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
          <p:cNvSpPr/>
          <p:nvPr/>
        </p:nvSpPr>
        <p:spPr>
          <a:xfrm>
            <a:off x="1187280" y="333360"/>
            <a:ext cx="7561440" cy="558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ahoma"/>
              </a:rPr>
              <a:t>Классификация лиц в зависимости от времени наступления дефекта</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2400" spc="-1" strike="noStrike">
                <a:solidFill>
                  <a:srgbClr val="ffffff"/>
                </a:solidFill>
                <a:latin typeface="Tahoma"/>
              </a:rPr>
              <a:t>слепорожденные</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раноослепшие</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позднослепшие</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Остаточное зрение характеризуется:</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неравнозначностью взаимодействия различных зрительных функций и несоответствием их параметров;</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неустойчивостью зрительных возможностей и снижением скорости и качества переработки информации;</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наступлением быстрого утомления из-за снижения функциональных возможностей зрения.</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
          <p:cNvSpPr/>
          <p:nvPr/>
        </p:nvSpPr>
        <p:spPr>
          <a:xfrm>
            <a:off x="684360" y="189000"/>
            <a:ext cx="7775280" cy="612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ричины возникновения нарушений зрения</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  </a:t>
            </a:r>
            <a:r>
              <a:rPr b="0" lang="ru-RU" sz="1800" spc="-1" strike="noStrike">
                <a:solidFill>
                  <a:srgbClr val="ffffff"/>
                </a:solidFill>
                <a:latin typeface="Times New Roman"/>
              </a:rPr>
              <a:t>Анализ причин слепоты и слабовидения показывают, что 92% слабовидения и 88% слепоты имеют врожденный характер, более 30% из них имеют наследственные формы (миопия, врожденная глаукома, атрофия зрительного нерва).</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   </a:t>
            </a:r>
            <a:r>
              <a:rPr b="0" lang="ru-RU" sz="1800" spc="-1" strike="noStrike">
                <a:solidFill>
                  <a:srgbClr val="ffffff"/>
                </a:solidFill>
                <a:latin typeface="Times New Roman"/>
              </a:rPr>
              <a:t>При этом четко прослеживается возрастание частоты врожденных аномалий развития органа зрения среди причин детской слепоты.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    </a:t>
            </a:r>
            <a:r>
              <a:rPr b="0" lang="ru-RU" sz="1800" spc="-1" strike="noStrike">
                <a:solidFill>
                  <a:srgbClr val="ffffff"/>
                </a:solidFill>
                <a:latin typeface="Times New Roman"/>
              </a:rPr>
              <a:t>Врожденные заболевания и аномалии развития органа зрения могут быть следствием внешних и внутренних повреждающих факторов.</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      </a:t>
            </a:r>
            <a:r>
              <a:rPr b="0" lang="ru-RU" sz="1800" spc="-1" strike="noStrike">
                <a:solidFill>
                  <a:srgbClr val="ffffff"/>
                </a:solidFill>
                <a:latin typeface="Times New Roman"/>
              </a:rPr>
              <a:t>В исследованиях Л.И.Кирилловой отмечаются наследственные нарушения обмена веществ в виде альбинизма; наследственные заболевания, приводящие к нарушению развития глазного яблока (врожденный анофтальм, микрофтальм); заболевания роговой оболочки (дистрофия роговицы); наследственная патология сосудистой оболочки (врожденные катаракты); отдельные формы патологии сетчатки, врожденная атрофия.</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Кроме наследственных факторов, у слепых и частично видящих детей имеются аномалии развития органа зрения в результате внешних и внутренних отрицательных факторов, действующих в период эмбрионального развития плода: патологическое течение беременности, перенесенные матерью вирусные заболевания, недоношенность, иммунологический конфликт между кровью матери и плода по резус-антигену, родовые травмы и т.д.</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
          <p:cNvSpPr/>
          <p:nvPr/>
        </p:nvSpPr>
        <p:spPr>
          <a:xfrm>
            <a:off x="547920" y="260280"/>
            <a:ext cx="8262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Особенности зрительных ощущений частичнозрячих и слабовидящих</a:t>
            </a:r>
            <a:endParaRPr b="0" lang="en-US" sz="1800" spc="-1" strike="noStrike">
              <a:solidFill>
                <a:srgbClr val="ffffff"/>
              </a:solidFill>
              <a:latin typeface="Arial"/>
            </a:endParaRPr>
          </a:p>
        </p:txBody>
      </p:sp>
      <p:sp>
        <p:nvSpPr>
          <p:cNvPr id="129" name=""/>
          <p:cNvSpPr/>
          <p:nvPr/>
        </p:nvSpPr>
        <p:spPr>
          <a:xfrm>
            <a:off x="468360" y="692280"/>
            <a:ext cx="7848720" cy="558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ff"/>
                </a:solidFill>
                <a:latin typeface="Times New Roman"/>
              </a:rPr>
              <a:t>Под остротой зрения </a:t>
            </a:r>
            <a:r>
              <a:rPr b="0" lang="ru-RU" sz="2000" spc="-1" strike="noStrike">
                <a:solidFill>
                  <a:srgbClr val="ffffff"/>
                </a:solidFill>
                <a:latin typeface="Times New Roman"/>
              </a:rPr>
              <a:t>понимается способность глаза различать две светящиеся точки на минимальном расстоянии. Снижение остроты зрения проявляется в необходимости увеличения угла зрения, при котором можно различать детали или контуры объекта, по сравнению с нормой. Угол зрения есть отношение какой-либо величины к расстоянию между объектом и глазом. Снижение остроты зрения требует увеличения, по сравнению с нормой, угла зрения для отчетливого видения, т.е. либо сокращения расстояния между глазом и объектом, либо увеличения самого объект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При снижении остроты зрения ниже 0,005 раздельное видение двух светящихся точек становится невозможным независимо от величины угла зрения. Зрение таких лиц не вычленяет пространственных отношений (величины, формы и удаленности объектов) и характеризуется лишь светоощущением. Острота зрения не является величиной постоянной. Она может изменяться как в сторону повышения, так и понижения. Тенденция к повышению остроты зрения особенно ярко выражена у слабовидящих, в значительно большей мере пользующихся зрением, чем частичнозрячие.</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
          <p:cNvSpPr/>
          <p:nvPr/>
        </p:nvSpPr>
        <p:spPr>
          <a:xfrm>
            <a:off x="684360" y="476280"/>
            <a:ext cx="799128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Под полем зрения </a:t>
            </a:r>
            <a:r>
              <a:rPr b="0" lang="en-US" sz="2400" spc="-1" strike="noStrike">
                <a:solidFill>
                  <a:srgbClr val="ffffff"/>
                </a:solidFill>
                <a:latin typeface="Times New Roman"/>
              </a:rPr>
              <a:t>подразумевается пространство, все точки которого</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видны одновременно при неподвижном взгляде. Наиболее типичными являются следующие формы нарушений поля зрения:</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концентрическое, идущее от периферии по всем направлениям к центру сужение поля зрения;</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выпадение отдельных участков внутри поля зрения (центральные скотомы);</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выпадение половины поля зрения (гемианопсии).</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Патологические изменения поля зрения ведут к нарушению зрительного отражения пространства, которое, в зависимости от характера изменения, либо сужается (при концентрическом сужении и гемианопсии), либо деформируется (при скотомах).</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
          <p:cNvSpPr/>
          <p:nvPr/>
        </p:nvSpPr>
        <p:spPr>
          <a:xfrm>
            <a:off x="324000" y="333360"/>
            <a:ext cx="820872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Весьма важной функцией зрения является также </a:t>
            </a:r>
            <a:r>
              <a:rPr b="0" i="1" lang="ru-RU" sz="2400" spc="-1" strike="noStrike">
                <a:solidFill>
                  <a:srgbClr val="ffffff"/>
                </a:solidFill>
                <a:latin typeface="Times New Roman"/>
              </a:rPr>
              <a:t>цветоразличение или</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Times New Roman"/>
              </a:rPr>
              <a:t>хроматическое зрение</a:t>
            </a:r>
            <a:r>
              <a:rPr b="0" lang="ru-RU" sz="2400" spc="-1" strike="noStrike">
                <a:solidFill>
                  <a:srgbClr val="ffffff"/>
                </a:solidFill>
                <a:latin typeface="Times New Roman"/>
              </a:rPr>
              <a:t>, развившееся в результате приспособления глаза к действию солнечного света. Нормальное цветоразличение (трихромазия) способствует не только наиболее полному и точному отражению действительности, но и играет большую роль в создании эмоционального тона зрительных ощущений. Патология цветного зрения проявляется в форме цветослабости и цветослепоты. Цветослабость и цветослепота имеют, как правило, избирательный характер. Полная цветослепота (ахромазия) наблюдается чрезвычайно редко. Наиболее распространены:</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протоаномалия</a:t>
            </a:r>
            <a:r>
              <a:rPr b="0" lang="ru-RU" sz="2400" spc="-1" strike="noStrike">
                <a:solidFill>
                  <a:srgbClr val="ffffff"/>
                </a:solidFill>
                <a:latin typeface="Times New Roman"/>
              </a:rPr>
              <a:t> – нарушение цветоощущения на красный цвет;</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дейтероаномалия </a:t>
            </a:r>
            <a:r>
              <a:rPr b="0" lang="ru-RU" sz="2400" spc="-1" strike="noStrike">
                <a:solidFill>
                  <a:srgbClr val="ffffff"/>
                </a:solidFill>
                <a:latin typeface="Times New Roman"/>
              </a:rPr>
              <a:t>– нарушение цветоощущения на зеленый цвет.</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
          <p:cNvSpPr/>
          <p:nvPr/>
        </p:nvSpPr>
        <p:spPr>
          <a:xfrm>
            <a:off x="395280" y="361800"/>
            <a:ext cx="828036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Важной функцией зрительного анализатора является </a:t>
            </a:r>
            <a:r>
              <a:rPr b="0" i="1" lang="ru-RU" sz="2400" spc="-1" strike="noStrike">
                <a:solidFill>
                  <a:srgbClr val="ffffff"/>
                </a:solidFill>
                <a:latin typeface="Times New Roman"/>
              </a:rPr>
              <a:t>светоразличение</a:t>
            </a:r>
            <a:r>
              <a:rPr b="0" lang="ru-RU"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осуществляющееся благодаря наличию световой чувствительности. Измерения световой чувствительности слабовидящих показали снижение этого</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вида чувствительности у большинства испытуемых (75%), а также отсутствие прямой зависимости нарушений световой чувствительности от остроты зрения, хотя наиболее значительные снижения чувствительности к</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свету наблюдаются при наиболее сильных снижениях остроты зрения.</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Повышение световой чувствительности в процессе адаптации к темноте при разных заболеваниях протекает различно, и наиболее быстрое снижение порогов наблюдается при альбинизме и близоруком астигматизме</a:t>
            </a:r>
            <a:r>
              <a:rPr b="0" lang="ru-RU"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1T14:32:16Z</dcterms:created>
  <dc:creator>1</dc:creator>
  <dc:description/>
  <dc:language>en-US</dc:language>
  <cp:lastModifiedBy>1</cp:lastModifiedBy>
  <dcterms:modified xsi:type="dcterms:W3CDTF">2011-10-12T14:22:52Z</dcterms:modified>
  <cp:revision>3</cp:revision>
  <dc:subject/>
  <dc:title>ПСИХОЛОГО-ПЕДАГОГИЧЕСКАЯ ХАРАКТЕРИСТИКА ДЕТЕЙ СНАРУШЕНИЕМ ЗРЕНИЯ </dc:title>
</cp:coreProperties>
</file>